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323-C7FC-4739-A855-AD91DE96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181-357C-4DED-9F65-3B766A16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421-8042-4F98-9D73-AFAFE8FC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8DE-ED6C-4FCD-A19C-6549CF4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A3E-38C2-4399-AB0D-B387F4B1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FEC-98E3-4986-9267-D3F4F11C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7005-7FF6-4F72-AF75-9CBE7B4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6D9-70CD-4C52-8E58-EF57A6E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159-6AFA-4E16-8ADE-1C3ACBAC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CCA-7115-42D2-9E14-0BA5F73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ABAA-BFEF-4A12-B1F4-3ECDBEB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1FE-0095-4BB5-8939-43923F2F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494A-7527-4B48-A6A9-B90131E3866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La chanson de la ga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00080" y="3886200"/>
            <a:ext cx="71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une : I do like to be beside the seasi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571680" y="0"/>
            <a:ext cx="8072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À quelle heure part le prochain train pour Paris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À quelle heure part le train pour Carcassonne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Le train qui arrive quai numéro dix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st le TGV numéro deux cent six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On laisse les bagages à la consig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Achète les billets au guiche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Ah bonjour, Madame, bonjour,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aller simple ou aller retour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alibri"/>
              </a:rPr>
              <a:t>Et bon voyage et bonne journée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22:14:50Z</dcterms:created>
  <dc:creator>Teacher</dc:creator>
  <dc:description/>
  <dc:language>en-US</dc:language>
  <cp:lastModifiedBy>Teacher</cp:lastModifiedBy>
  <dcterms:modified xsi:type="dcterms:W3CDTF">2010-02-23T22:23:10Z</dcterms:modified>
  <cp:revision>1</cp:revision>
  <dc:subject/>
  <dc:title>La chanson de la gare</dc:title>
</cp:coreProperties>
</file>